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D27-D626-44F4-9141-A7D2C342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EE5-F43E-405F-A712-F4F92EEA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0697-E37C-48EA-8707-A918D5FD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3E8-698D-40E5-8025-727BED3C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D6A-319F-40A9-AE60-904B633E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9F5-7F4A-48EB-BCFF-303F7224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605-5EBC-4E5C-BD94-927AF9DB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18E-5A28-46EC-B360-E96554C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80D-91CE-4515-93DA-840554F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331-57E5-4557-A09E-C42E38A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4BD-F5F1-474D-9524-FF2C15B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0F1-462D-41A0-B790-8C9D593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F21C-18E5-44D2-B366-B6C3054C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group3pas.wikispaces.com/Music,%20Map%20and%20Pyramid%20of%20the%20Sun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www.greatdreams.com/mynproph.htm" TargetMode="External"/><Relationship Id="rId5" Type="http://schemas.openxmlformats.org/officeDocument/2006/relationships/hyperlink" Target="http://www.greatdreams.com/mynproph.ht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hyperlink" Target="http://www.uncp.edu/home/rwb/lecture_nonwest_world.htm" TargetMode="External"/><Relationship Id="rId5" Type="http://schemas.openxmlformats.org/officeDocument/2006/relationships/hyperlink" Target="http://www.uncp.edu/home/rwb/lecture_nonwest_world.htm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Columbian Civiliz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485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Br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98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998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998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998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998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998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6553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in Central Mexico- Valley of Mex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was Tenochtitlan.  It was built in the middle of a lake.  Now Mexico 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polytheistic (believed in many g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other Tribes pay tribu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fought with other tri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laved other tribes and used them for sacrifi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down by Smallpox and Cort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ztecs and their leader, Montezuma were tricked by Cortez who pretended he was friends with them.  The Aztecs thought he was a the pale skinned god Quetzacoa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1-Aztec_Empire_Map.png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314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yramidOfTheMoonFromPyramidOfTheSun.jpg"/>
          <p:cNvPicPr/>
          <p:nvPr/>
        </p:nvPicPr>
        <p:blipFill>
          <a:blip r:embed="rId2"/>
          <a:stretch/>
        </p:blipFill>
        <p:spPr>
          <a:xfrm>
            <a:off x="0" y="228600"/>
            <a:ext cx="3657600" cy="2478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12408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3pas.wikispaces.com/Music, Map and Pyramid of the S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d on the Mexican coast- Yucat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everal major cities.  Was harder for conquistadors to overth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little g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slaves who could regain freed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ppeared- not sure what happen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37320" y="501336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7800" y="3892680"/>
            <a:ext cx="3886200" cy="296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20923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6019920"/>
            <a:ext cx="19047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greatdreams.com/mynproph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790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around the Andes Mts., Pe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city was Cuz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theis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 writte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d animal sacri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20 million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organized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31080" y="4183200"/>
            <a:ext cx="1904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2987640"/>
            <a:ext cx="4157640" cy="3714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80880" y="0"/>
            <a:ext cx="279900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7920" y="609624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048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uncp.edu/home/rwb/lecture_nonwest_world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an 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quer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ed with 500 men and 16 horses to conquer the Aztecs in 15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nded to come in friendship and he happened to come on the day the Aztecs were waiting for a go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tzacoat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tu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 Leader, Montezuma was taken hostage and eventually k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nish were routed but returned in 1521 and defeated the Azt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680"/>
                            </p:stCondLst>
                            <p:childTnLst>
                              <p:par>
                                <p:cTn id="2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80"/>
                            </p:stCondLst>
                            <p:childTnLst>
                              <p:par>
                                <p:cTn id="2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18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73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13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isco Pizz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ed with 180 men and 27 horses into Peru to conquer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ire quickly fell because they were fighting a civil war- a war with a country fighting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hualpa was captured and held for ransom, and was still k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quistadors Changed The Ame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native cultures are lost forever, as well as hundreds of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 for conquistadors like Cortez and Pizzaro the majority of people in the Americas might not be made up of Christ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in Central and South America might not speak Span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might still be made up of Aztecs and several other tr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6:49Z</dcterms:created>
  <dc:creator>jklib</dc:creator>
  <dc:description/>
  <dc:language>en-US</dc:language>
  <cp:lastModifiedBy>jklib</cp:lastModifiedBy>
  <dcterms:modified xsi:type="dcterms:W3CDTF">2011-11-28T14:18:09Z</dcterms:modified>
  <cp:revision>18</cp:revision>
  <dc:subject/>
  <dc:title>Pre-Columbian Civilizations &amp; European Conquistadors </dc:title>
</cp:coreProperties>
</file>